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06F-F223-4AF8-86F3-D79D05E4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59A-1655-4E1F-B743-744EA8C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F5D-1AC0-441D-A2F4-D9439978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E665-143E-4BB8-A548-D14D91E9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225-EF7E-46E7-866F-4F12DC20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B003-ED71-4BB7-8EDC-D4E4B6AD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C7CB-DEA1-40A6-962D-4958FBA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1D9-5C73-44B5-A179-D2F01EB6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DA43-AD60-4084-8066-D633239D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22D8-30EA-4AD6-8CFE-08BF271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06A8-092B-4F5C-88AA-04DDBB7A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920B-5963-4A95-B116-0F330E00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9B2C-CE62-4326-BF51-39D3D569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B856-26D3-4051-B276-274B2C5E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319-F8D6-469D-BABE-9F060416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E6B4-9C1C-4866-AA86-34072878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5824-7726-42AC-9C6E-F0AE3776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4AD-A58D-40BC-A5A3-D8200F6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50D-E076-4016-ABDE-4C566C8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7B12-8A3D-474B-B948-2BDA6F2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CCF-8202-4A46-8F71-AF4A81A2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76A0-A28D-4A0B-BC58-481CE5D8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3F1-1492-4C31-AA20-46FAEC90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012C-8029-4D6E-B056-00648AE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D5FC-10D3-4674-9297-B5855B6DEE7D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80A8-8F5E-4983-81FD-89AB8AD7B659}" type="slidenum"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hina Review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did Buddha say one had to give up so they could end their suffering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 said that the only way to not suffer was to give up desire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the goal of Buddhism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goal of Buddhism is nirva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“the Buddha” mea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” means the “Enlightened One.”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 Buddhists practice to achieve nirvan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ts practice meditation to achieve nirva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reincarnatio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Reincarnation is the belief that when the body dies the soul enters a new bod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karm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Karma is the good and bad actions that will have a consequences, which leads to rebirth after rebirth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Buddhism get to Chin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got to China by monks and traders traveling along the Silk Roa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Who did Confucius say should have absolute respect for authority?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e children should have absolute respect for authori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"/>
              </a:rPr>
              <a:t>What is one reason why Buddhism spread in Tang China?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spread in Tang China because it promised a better lif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Daoism call the opposite forces of nature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aoism calls the opposite forces of nature yin and yang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How did Confucius say people should treat each other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people should treat each other with respec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Daoism say people should live in harmony with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aoism says people should live in harmony with natur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o did Confucius say should set a good example and society would be healthy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at the ruler should set a good example and society would be health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y did Buddhism spread after the collapse of the Han Dynasty in the 200s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ism spread after the collapse of the Han Dynasty because it offered comfort in a time of uncertainty and disorder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w might a scholar-official in the Tang Dynasty have obtained a position in the government?</a:t>
            </a: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scholar-official in the Tang Dynasty would have obtained a position in the government by doing well on a state examination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209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would be a good title for the map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6472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e Chinese were the first to turn paper into this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were the first to turn paper into money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y was the Great Wall built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Great Wall was built to keep invaders out of Chin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mountain range is between China and India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Himalayas are the mountains between China and Indi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allowed China to be unified after the breakup of the Han Dynasty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establishment of a central government allowed China to be unified after the breakup of the Han Dynasty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cultural diffusio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ultural diffusion is the spread of ideas from one culture to another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use tea for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t first the Chinese used tea as a medicine, but eventually it became a very popular beverag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ccording to the map, where did the ideas of Buddhism begin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1373040"/>
            <a:ext cx="7391520" cy="5275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porcelai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Porcelain is a hard white ceramic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This invention allowed the Chinese to  print books.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invention that allowed the Chinese to print books was movable type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wood-blocked printing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ood block printing is carved wooden blocks with enough characters to make an entire pag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oes imperial mea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mperial means related to an empir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is a bureaucracy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A bureaucracy is a government divided into department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hat Chinese invention helped spread knowledge throughout the world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ion of printing spread knowledge throughout the world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invent to make firework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ed gunpowder to make fireworks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Eventually, the gunpowder was used for weapon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the Chinese invent that helped sailor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Chinese invented the compass which helped sailors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With the compass, sailors could tell what direction they were heading in even at night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According to Confucius, how will a society be healthy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onfucius said that a society would be healthy if everyone treated each other with respect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ere was the Buddha born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e Buddha was born in India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What did Buddha teach that life was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Buddha taught that all life was suffering and pain.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4:49:13Z</dcterms:created>
  <dc:creator>Jeff Kash</dc:creator>
  <dc:description/>
  <dc:language>en-US</dc:language>
  <cp:lastModifiedBy>Jeff Kash</cp:lastModifiedBy>
  <dcterms:modified xsi:type="dcterms:W3CDTF">2010-02-13T21:57:55Z</dcterms:modified>
  <cp:revision>23</cp:revision>
  <dc:subject/>
  <dc:title>China Review</dc:title>
</cp:coreProperties>
</file>